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02BA-2367-4DF3-B7FC-D580D3C22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4E1-9199-46D2-A325-4627BD58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C57-AAF0-4BBD-91F3-060BDF456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C06B-020D-4895-8B43-1A346D1D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7B91-ED6E-4C8B-99B5-BC39AA74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226-C777-403E-BFA7-C7EB25FD0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57A-7D34-4493-A593-A7165157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CB94-14F5-4F37-B5A5-2399FBDF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82D0-0B5E-4897-91CF-0507E8D2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16B-B3FB-4747-873B-7A76AE363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2E03-03A0-4345-B4BC-7D32928D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380-CC5F-45A1-86E0-BE94246B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78BE5-A1B4-465D-9A0C-74216BCE86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D8D17D-D2E0-4AA9-9798-91FEE9D95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0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utation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xmen.jpg"/>
          <p:cNvPicPr/>
          <p:nvPr/>
        </p:nvPicPr>
        <p:blipFill>
          <a:blip r:embed="rId1"/>
          <a:stretch/>
        </p:blipFill>
        <p:spPr>
          <a:xfrm>
            <a:off x="1371600" y="1960560"/>
            <a:ext cx="652464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lizard.jpg"/>
          <p:cNvPicPr/>
          <p:nvPr/>
        </p:nvPicPr>
        <p:blipFill>
          <a:blip r:embed="rId1"/>
          <a:stretch/>
        </p:blipFill>
        <p:spPr>
          <a:xfrm>
            <a:off x="129528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66" name="Right Arrow 4"/>
          <p:cNvSpPr/>
          <p:nvPr/>
        </p:nvSpPr>
        <p:spPr>
          <a:xfrm>
            <a:off x="3962520" y="5486400"/>
            <a:ext cx="1295280" cy="304920"/>
          </a:xfrm>
          <a:prstGeom prst="rightArrow">
            <a:avLst>
              <a:gd name="adj1" fmla="val 50000"/>
              <a:gd name="adj2" fmla="val 49972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A+six-foot+long+monitor+lizard+we+saw+just+swimming+from+one+island+to+another.+.jpg"/>
          <p:cNvPicPr/>
          <p:nvPr/>
        </p:nvPicPr>
        <p:blipFill>
          <a:blip r:embed="rId2"/>
          <a:stretch/>
        </p:blipFill>
        <p:spPr>
          <a:xfrm>
            <a:off x="5518080" y="4572000"/>
            <a:ext cx="2571840" cy="1928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96920" y="1752120"/>
            <a:ext cx="5060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)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qu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TCGTTAGC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tent Placeholder 6"/>
          <p:cNvSpPr/>
          <p:nvPr/>
        </p:nvSpPr>
        <p:spPr>
          <a:xfrm>
            <a:off x="3581280" y="297180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utated Seque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CATTAGC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10"/>
          <p:cNvSpPr/>
          <p:nvPr/>
        </p:nvSpPr>
        <p:spPr>
          <a:xfrm rot="1840200">
            <a:off x="2157480" y="2819520"/>
            <a:ext cx="1447560" cy="304560"/>
          </a:xfrm>
          <a:prstGeom prst="rightArrow">
            <a:avLst>
              <a:gd name="adj1" fmla="val 50000"/>
              <a:gd name="adj2" fmla="val 5003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3558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96920" y="1752120"/>
            <a:ext cx="5060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)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equ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GGCCTATATT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tent Placeholder 6"/>
          <p:cNvSpPr/>
          <p:nvPr/>
        </p:nvSpPr>
        <p:spPr>
          <a:xfrm>
            <a:off x="3581280" y="297180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utated Seque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GTATATT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ight Arrow 10"/>
          <p:cNvSpPr/>
          <p:nvPr/>
        </p:nvSpPr>
        <p:spPr>
          <a:xfrm rot="1840200">
            <a:off x="2157480" y="2819520"/>
            <a:ext cx="1447560" cy="304560"/>
          </a:xfrm>
          <a:prstGeom prst="rightArrow">
            <a:avLst>
              <a:gd name="adj1" fmla="val 50000"/>
              <a:gd name="adj2" fmla="val 5003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3558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kind of mutation is shown bel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ginal ----  CGATTTC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ated ---  CGATTCG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d up: 1 finger for “point mutation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fingers for “insertion mutation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fingers for “deletion muta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cking for Understa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What kind of mutation is shown bel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ginal ----   CTGGTAG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tated ---   CTGCTAG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ld up: 1 finger for “point mutation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fingers for “insertion mutation”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fingers for “deletion mutation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A mutation is any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hange in the nucleotide sequence in a DNA molec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other words, a mutation is a change in the genetic material of an organism. 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The order of bases in our DNA (A, T, G, C) determines our traits… so if there is a change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utat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code will be altered and our traits can be altered as well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 the time, the mutation makes no difference in the life of an organism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3. How can mutations b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ba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living thing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organisms function like machines. There are many parts of an organism that work together to keep the organism aliv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would happen if you removed some of the parts of a car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4. How can mutations be </a:t>
            </a: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goo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living thing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word =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Calibri"/>
              </a:rPr>
              <a:t>varie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iety is important so that a population can survive in the face of a changing environment; mutations create varie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memb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Galapagos swimming liz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lizard.jpg"/>
          <p:cNvPicPr/>
          <p:nvPr/>
        </p:nvPicPr>
        <p:blipFill>
          <a:blip r:embed="rId1"/>
          <a:stretch/>
        </p:blipFill>
        <p:spPr>
          <a:xfrm>
            <a:off x="1295280" y="4572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53" name="Right Arrow 4"/>
          <p:cNvSpPr/>
          <p:nvPr/>
        </p:nvSpPr>
        <p:spPr>
          <a:xfrm>
            <a:off x="3962520" y="5486400"/>
            <a:ext cx="1295280" cy="304920"/>
          </a:xfrm>
          <a:prstGeom prst="rightArrow">
            <a:avLst>
              <a:gd name="adj1" fmla="val 50000"/>
              <a:gd name="adj2" fmla="val 49972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A+six-foot+long+monitor+lizard+we+saw+just+swimming+from+one+island+to+another.+.jpg"/>
          <p:cNvPicPr/>
          <p:nvPr/>
        </p:nvPicPr>
        <p:blipFill>
          <a:blip r:embed="rId2"/>
          <a:stretch/>
        </p:blipFill>
        <p:spPr>
          <a:xfrm>
            <a:off x="5518080" y="4572000"/>
            <a:ext cx="2571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Types of Mu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nser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when one or more bases are added to a DNA sequ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 TAGTAG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GT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Dele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when on or more bases are removed (or “deleted”) from a DNA sequen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TAGTA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TA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3)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oint muta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 when one or more bases is switched for ano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ample: TAGTA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A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6920" y="1752120"/>
            <a:ext cx="5060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1).  Sequenc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GATCCTGA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uided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ontent Placeholder 6"/>
          <p:cNvSpPr/>
          <p:nvPr/>
        </p:nvSpPr>
        <p:spPr>
          <a:xfrm>
            <a:off x="3276720" y="2862360"/>
            <a:ext cx="6095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utated Seque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TGATCCTG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ight Arrow 10"/>
          <p:cNvSpPr/>
          <p:nvPr/>
        </p:nvSpPr>
        <p:spPr>
          <a:xfrm rot="1840200">
            <a:off x="1852200" y="2709360"/>
            <a:ext cx="1447920" cy="304920"/>
          </a:xfrm>
          <a:prstGeom prst="rightArrow">
            <a:avLst>
              <a:gd name="adj1" fmla="val 50000"/>
              <a:gd name="adj2" fmla="val 49991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3558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7T15:15:06Z</dcterms:created>
  <dc:creator>Eric Shannon</dc:creator>
  <dc:description/>
  <dc:language>en-US</dc:language>
  <cp:lastModifiedBy>Eric Shannon</cp:lastModifiedBy>
  <dcterms:modified xsi:type="dcterms:W3CDTF">2010-01-08T13:43:51Z</dcterms:modified>
  <cp:revision>18</cp:revision>
  <dc:subject/>
  <dc:title>Mutations</dc:title>
</cp:coreProperties>
</file>